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hdr"/>
          </p:nvPr>
        </p:nvSpPr>
        <p:spPr>
          <a:xfrm>
            <a:off x="-18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dt" idx="1"/>
          </p:nvPr>
        </p:nvSpPr>
        <p:spPr>
          <a:xfrm>
            <a:off x="38844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ftr" idx="2"/>
          </p:nvPr>
        </p:nvSpPr>
        <p:spPr>
          <a:xfrm>
            <a:off x="-18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sldNum" idx="3"/>
          </p:nvPr>
        </p:nvSpPr>
        <p:spPr>
          <a:xfrm>
            <a:off x="38844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71C815A-59D2-4990-A9F0-444263534BB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6"/>
          <p:cNvSpPr/>
          <p:nvPr/>
        </p:nvSpPr>
        <p:spPr>
          <a:xfrm>
            <a:off x="2793960" y="8682120"/>
            <a:ext cx="12704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31A30E5-3AA8-464E-8D35-6168EF862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Img"/>
          </p:nvPr>
        </p:nvSpPr>
        <p:spPr>
          <a:xfrm>
            <a:off x="1158480" y="692280"/>
            <a:ext cx="4538520" cy="340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2A6F776-4340-43A0-8BC9-2DEDF19E6D1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3B146A1-CA62-4374-B970-2087ACFAA50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E993B18-566B-4BE9-A12F-1411860F4DC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D0C90BE-EE36-44E1-AC81-994D4248317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4A1AD9E-13B2-4CA6-80BF-91E674BC2B1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33A8F0E-00FD-4C05-893A-6595645A29C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F8B9387-94C9-4482-AF09-2B106B14EA3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1831932-B21B-49FA-98CE-D0A06B65160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CA270B9-AB0D-4C02-907B-05A86232514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9617D2D-0248-46C4-9523-F8FFACBE5D5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2B0F1F2-F72E-462B-9486-7D373AC638D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D9C247C-3ACB-48D0-A40C-34D91159956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D01E472-A245-490A-B81E-A08DBE2BEC4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276E915-66C1-4E24-A8AD-AB8D6E525ED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12DABFF-9747-4986-AB12-9BCC10F8EA3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860EB64-05CF-4E97-836B-F1611026BE1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AC4DA3D-2424-439F-9968-9E79C0B9693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B610235-1A1F-408B-97DD-6430FF4826A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29FA7CB-8ED0-400F-BD8F-2EE92B79757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832EDC3-B229-42C3-B223-6D9F9C24E6E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948C9DC-5B6A-417E-81ED-BA00FF287B1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37CB0AC-BF54-446A-974E-9A9CB63D9CD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EFECB72-4611-4386-A42D-54CB1F91F27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01371CB-42B5-4554-B8EA-A4008E69BE3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DE55393-90BF-4FDF-A176-501754255AD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15B07D0-993E-4E65-BDEA-735A93AE04A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5C355D2-773B-4608-9E51-FA89F774F56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905AD12-81DE-4EEA-B080-0E38DC1F9AA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84FD60C-2368-4B63-AFE1-38C641034B3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9560" cy="2084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095D82A-89F7-4E8E-86BA-CF4643EEDD3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9560" cy="2084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72ADCFF-DA7C-4FEE-B073-11127D22DA2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9560" cy="2084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5FC3072-1521-4DB1-B44D-EDB0F4323B5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9560" cy="2084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13D090B-5BD5-4962-A564-C7ED2105A1B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1D1B30E-DEBA-4240-BAA7-F54F058E8C0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9560" cy="2084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0030FE8-A44E-4AF8-90A6-8EEA9B61D8D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9560" cy="2084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8F79205-E1B4-486B-9812-281328CFFB8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9560" cy="2084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BBF3DEC-45CB-4F92-A155-490BCA2A544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9560" cy="2084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29B64A5-A28E-47E3-A8C5-5C7976B415F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9560" cy="2084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E0EFE6A-664C-4D24-A8ED-8F2BC72A31A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938240" y="59688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AB5B852-92A9-4B66-8A18-DCE7A228905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938240" y="596880"/>
            <a:ext cx="277488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E67554B-6F81-4E95-8495-935B62E223D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CF8C819-C360-4D96-A192-5E78A2C19B9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58C96C9-ED5F-409F-90E6-5BF330F4D5C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16FE394-23C9-4873-8F0E-44D5A2C3B22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DF0DB61-A568-4A2F-B2B7-5EF26CDACB6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6121-BB9F-4363-ACAD-3F9865F61871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4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9608-8961-4045-AB0B-88A3A97B0F1E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8"/>
          <p:cNvSpPr/>
          <p:nvPr/>
        </p:nvSpPr>
        <p:spPr>
          <a:xfrm>
            <a:off x="1004760" y="141300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DFA6-1CC2-4D20-8BCF-CC93F7E7E995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98F5-BDD3-49B6-A459-F87DF86EC3A1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1004760" y="141300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Placeholder 5" descr=""/>
          <p:cNvPicPr/>
          <p:nvPr/>
        </p:nvPicPr>
        <p:blipFill>
          <a:blip r:embed="rId3"/>
          <a:srcRect l="9028" t="0" r="0" b="0"/>
          <a:stretch/>
        </p:blipFill>
        <p:spPr>
          <a:xfrm>
            <a:off x="6059520" y="0"/>
            <a:ext cx="3084480" cy="63752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6"/>
          <p:cNvSpPr/>
          <p:nvPr/>
        </p:nvSpPr>
        <p:spPr>
          <a:xfrm>
            <a:off x="0" y="-17640"/>
            <a:ext cx="6059520" cy="640080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7"/>
          <p:cNvSpPr/>
          <p:nvPr/>
        </p:nvSpPr>
        <p:spPr>
          <a:xfrm>
            <a:off x="380880" y="5492880"/>
            <a:ext cx="478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oftware Engineering Instit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arnegie Mellon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ittsburgh, PA  152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9" descr=""/>
          <p:cNvPicPr/>
          <p:nvPr/>
        </p:nvPicPr>
        <p:blipFill>
          <a:blip r:embed="rId4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73"/>
          <p:cNvSpPr/>
          <p:nvPr/>
        </p:nvSpPr>
        <p:spPr>
          <a:xfrm>
            <a:off x="4413240" y="6411960"/>
            <a:ext cx="2019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1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511B-595D-407B-B7DA-B613ED27B9F3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805C-98BC-4BEB-B8BC-F67AF7A69993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1004760" y="141300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6059520" y="6392880"/>
            <a:ext cx="3084480" cy="46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7" descr=""/>
          <p:cNvPicPr/>
          <p:nvPr/>
        </p:nvPicPr>
        <p:blipFill>
          <a:blip r:embed="rId3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3"/>
          <p:cNvSpPr/>
          <p:nvPr/>
        </p:nvSpPr>
        <p:spPr>
          <a:xfrm>
            <a:off x="4413240" y="6411960"/>
            <a:ext cx="2019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© 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9"/>
          <p:cNvSpPr/>
          <p:nvPr/>
        </p:nvSpPr>
        <p:spPr>
          <a:xfrm>
            <a:off x="6502320" y="6411960"/>
            <a:ext cx="1873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500" spc="-1" strike="noStrike">
                <a:solidFill>
                  <a:srgbClr val="ffffff"/>
                </a:solidFill>
                <a:latin typeface="Arial"/>
                <a:ea typeface="Arial"/>
              </a:rPr>
              <a:t>DISTRIBUTION STATEMENT Please copy and paste the appropriate distribution statement into this space.]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51DF-D19E-47C0-A288-DAF62264CC2C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4F05-0757-4504-BAFA-98114507DE1E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8"/>
          <p:cNvSpPr/>
          <p:nvPr/>
        </p:nvSpPr>
        <p:spPr>
          <a:xfrm>
            <a:off x="1004760" y="141300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5" descr=""/>
          <p:cNvPicPr/>
          <p:nvPr/>
        </p:nvPicPr>
        <p:blipFill>
          <a:blip r:embed="rId3"/>
          <a:srcRect l="5173" t="0" r="0" b="0"/>
          <a:stretch/>
        </p:blipFill>
        <p:spPr>
          <a:xfrm>
            <a:off x="11160" y="1098720"/>
            <a:ext cx="3227400" cy="52416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20BF-7985-492C-82D5-3CD5B259329F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201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565F-CD54-425E-8C1F-4A7C643B8A90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1004760" y="141300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5"/>
          <p:cNvSpPr/>
          <p:nvPr/>
        </p:nvSpPr>
        <p:spPr>
          <a:xfrm>
            <a:off x="0" y="-17640"/>
            <a:ext cx="9144000" cy="635508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6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7" descr=""/>
          <p:cNvPicPr/>
          <p:nvPr/>
        </p:nvPicPr>
        <p:blipFill>
          <a:blip r:embed="rId3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8"/>
          <p:cNvSpPr/>
          <p:nvPr/>
        </p:nvSpPr>
        <p:spPr>
          <a:xfrm>
            <a:off x="6059520" y="6392880"/>
            <a:ext cx="3084480" cy="46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3"/>
          <p:cNvSpPr/>
          <p:nvPr/>
        </p:nvSpPr>
        <p:spPr>
          <a:xfrm>
            <a:off x="4413240" y="6411960"/>
            <a:ext cx="2019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PSP Fundamentals: Day 2 Agend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© 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0"/>
          <p:cNvSpPr/>
          <p:nvPr/>
        </p:nvSpPr>
        <p:spPr>
          <a:xfrm>
            <a:off x="6502320" y="6411960"/>
            <a:ext cx="1873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500" spc="-1" strike="noStrike">
                <a:solidFill>
                  <a:srgbClr val="ffffff"/>
                </a:solidFill>
                <a:latin typeface="Arial"/>
                <a:ea typeface="Arial"/>
              </a:rPr>
              <a:t>DISTRIBUTION STATEMENT Please copy and paste the appropriate distribution statement into this space.]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73EF-035F-40E7-8F78-83AC4D77D37F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A34E-730E-4AA0-AFA0-DC25F1C8807C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8"/>
          <p:cNvSpPr/>
          <p:nvPr/>
        </p:nvSpPr>
        <p:spPr>
          <a:xfrm>
            <a:off x="1004760" y="141300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F11B-F1A6-4B3B-A2EF-27D08F3A3DAE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D3B2-3FA3-477C-B866-949C5F7051BE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8"/>
          <p:cNvSpPr/>
          <p:nvPr/>
        </p:nvSpPr>
        <p:spPr>
          <a:xfrm>
            <a:off x="1004760" y="141300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FDDB-3539-492C-8791-3C2F14BB7B10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345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21AC-0571-4B47-A72C-A96C44354FFC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8"/>
          <p:cNvSpPr/>
          <p:nvPr/>
        </p:nvSpPr>
        <p:spPr>
          <a:xfrm>
            <a:off x="1004760" y="141300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9"/>
          <p:cNvSpPr/>
          <p:nvPr/>
        </p:nvSpPr>
        <p:spPr>
          <a:xfrm>
            <a:off x="5578560" y="6567480"/>
            <a:ext cx="35654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P I - Using PSP Data - </a:t>
            </a:r>
            <a:fld id="{EF4A62AE-8DDF-4D89-80D4-8DB79DAC386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10"/>
          <p:cNvSpPr/>
          <p:nvPr/>
        </p:nvSpPr>
        <p:spPr>
          <a:xfrm>
            <a:off x="993600" y="1508040"/>
            <a:ext cx="634212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Personal Software Proces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for Engineers: Part 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Narrow"/>
              </a:rPr>
              <a:t>Using PSP Data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1"/>
          <p:cNvSpPr/>
          <p:nvPr/>
        </p:nvSpPr>
        <p:spPr>
          <a:xfrm>
            <a:off x="5165280" y="1546200"/>
            <a:ext cx="26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695"/>
                </a:solidFill>
                <a:latin typeface="Arial"/>
              </a:rPr>
              <a:t>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73000" y="8222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Importance of Period Plan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909720" y="167004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9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rs focus on project plans, but live in a periodic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7680" indent="-168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s have committed d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7680" indent="-168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es collect revenue, declare dividends, and pay sala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7680" indent="-168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ll pay monthly bills and collect periodic paychec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7680" indent="-168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lso take time off for weekends and scheduled va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lationship between project plans and period plans is the source of most project 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is why it is important to use sound methods when making the project sched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74440" y="822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edule Estimating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899640" y="164124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make a schedule, you need three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estimated direct project hours for each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calendar of available direct hou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rder in which the tasks will be d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n, you need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e the hours needed for each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read these task hours over the calendar of available h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01440" y="8172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ailable Direct Hou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885960" y="1641240"/>
            <a:ext cx="737208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89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ffing sched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3480" indent="-151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projects are not instantly staff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3480" indent="-151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need a committed staffing pl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e a calendar spread of available hou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3480" indent="-151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 52 weeks per year and 40 hours per week,              1 year = 2080 hou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3480" indent="-151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3 weeks of vacation and 10 holidays,                   1 year =1880 hours (90%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3480" indent="-151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10% for meetings and 15% for mail and interrupts,  1 year ≈ 1000 to 1400 hours (50 to 65%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3480" indent="-151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itional time is usually spent on project activities that are not related to the direct task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77680" y="8316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 Ord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890280" y="1645920"/>
            <a:ext cx="768996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ask order is driven by the development strateg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need a conceptual approa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task needs completion crite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must consider task interdependenc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consider cost and cycle-time priorit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e the planned task ord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nitial task order provides a basis for plann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ask order will change with new knowled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74440" y="82692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e the Sche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885960" y="1627200"/>
            <a:ext cx="7905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e the hours that each task will tak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portion of total hours have such tasks taken historicall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ll anything unusual affect this projec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ensure that tasks are not omitted, consider the tasks for the entire proje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read the task hours over the calend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key project checkpoi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a standard forma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87040" y="822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ask Planning Templ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899640" y="163656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SP task planning template is shown in table 7.2 (page 118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fill out this templ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st the tasks in expected completion or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er the estimated hours for each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 the hours in the cumulative hours colum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 this point, start to prepare the schedule planning templa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88840" y="80784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edule Planning Templ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899640" y="1650960"/>
            <a:ext cx="78058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SP schedule template is shown in table 7.1 (page 116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start filling out this templ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st the calendar dates in the left-hand colum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days or weeks, depending on project sca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days, list eve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eeks, use a standard day (for example, Mond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st the planned direct project hours available each we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 the hours in the cumulative hours colum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te the task and schedule templates concurrent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80920" y="8316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ting the Pl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890640" y="16272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each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ok on the task template for the cumulative hours needed to complete that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 the schedule template, find the week during which those hours are first exc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 the task template, enter that week’s date in th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lumn for that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now have the task schedu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74440" y="81252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edule Planning Example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1017720" y="2165400"/>
          <a:ext cx="7413480" cy="4129200"/>
        </p:xfrm>
        <a:graphic>
          <a:graphicData uri="http://schemas.openxmlformats.org/drawingml/2006/table">
            <a:tbl>
              <a:tblPr/>
              <a:tblGrid>
                <a:gridCol w="2471760"/>
                <a:gridCol w="2469960"/>
                <a:gridCol w="2471760"/>
              </a:tblGrid>
              <a:tr h="412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as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Ho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um. Ho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0" name="Rectangle 3"/>
          <p:cNvSpPr/>
          <p:nvPr/>
        </p:nvSpPr>
        <p:spPr>
          <a:xfrm>
            <a:off x="554040" y="1346040"/>
            <a:ext cx="821376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774720" y="1692360"/>
            <a:ext cx="80042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rmAutofit/>
          </a:bodyPr>
          <a:p>
            <a:pPr marL="128520" indent="-128520">
              <a:lnSpc>
                <a:spcPct val="90000"/>
              </a:lnSpc>
              <a:buClr>
                <a:srgbClr val="000000"/>
              </a:buClr>
              <a:buFont typeface="Arial"/>
              <a:buChar char=" "/>
              <a:tabLst>
                <a:tab algn="l" pos="2857680"/>
                <a:tab algn="l" pos="53722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task planning template, enter the estimated hours per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lnSpc>
                <a:spcPct val="90000"/>
              </a:lnSpc>
              <a:buClr>
                <a:srgbClr val="000000"/>
              </a:buClr>
              <a:buFont typeface="Arial"/>
              <a:buChar char=" "/>
              <a:tabLst>
                <a:tab algn="l" pos="2857680"/>
                <a:tab algn="l" pos="53722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74440" y="81900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edule Planning Example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1017720" y="2370240"/>
          <a:ext cx="7413480" cy="3924360"/>
        </p:xfrm>
        <a:graphic>
          <a:graphicData uri="http://schemas.openxmlformats.org/drawingml/2006/table">
            <a:tbl>
              <a:tblPr/>
              <a:tblGrid>
                <a:gridCol w="2471760"/>
                <a:gridCol w="2469960"/>
                <a:gridCol w="2471760"/>
              </a:tblGrid>
              <a:tr h="434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Ho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um. Ho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6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6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6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4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6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6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6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5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4" name="Rectangle 3"/>
          <p:cNvSpPr/>
          <p:nvPr/>
        </p:nvSpPr>
        <p:spPr>
          <a:xfrm>
            <a:off x="774720" y="1679400"/>
            <a:ext cx="78516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rmAutofit/>
          </a:bodyPr>
          <a:p>
            <a:pPr marL="128520" indent="-128520">
              <a:lnSpc>
                <a:spcPct val="90000"/>
              </a:lnSpc>
              <a:buClr>
                <a:srgbClr val="000000"/>
              </a:buClr>
              <a:buFont typeface="Arial"/>
              <a:buChar char=" "/>
              <a:tabLst>
                <a:tab algn="l" pos="2857680"/>
                <a:tab algn="l" pos="53722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schedule planning template, enter the direct hours available per day or we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73000" y="8316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cture Topic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880560" y="163188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76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ing personal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ing task pl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ing sched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cking project st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rned val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ing job comple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ject repor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2"/>
          <p:cNvSpPr/>
          <p:nvPr/>
        </p:nvSpPr>
        <p:spPr>
          <a:xfrm>
            <a:off x="766800" y="1685880"/>
            <a:ext cx="782640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rmAutofit/>
          </a:bodyPr>
          <a:p>
            <a:pPr marL="128520" indent="-128520">
              <a:lnSpc>
                <a:spcPct val="90000"/>
              </a:lnSpc>
              <a:buClr>
                <a:srgbClr val="000000"/>
              </a:buClr>
              <a:buFont typeface="Arial"/>
              <a:buChar char=" "/>
              <a:tabLst>
                <a:tab algn="l" pos="385920"/>
                <a:tab algn="l" pos="1943280"/>
                <a:tab algn="l" pos="3720960"/>
                <a:tab algn="l" pos="56008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task schedule, enter the day (or week) during which the cumulative hours for each task is reach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lnSpc>
                <a:spcPct val="90000"/>
              </a:lnSpc>
              <a:buClr>
                <a:srgbClr val="000000"/>
              </a:buClr>
              <a:buFont typeface="Arial"/>
              <a:buChar char=" "/>
              <a:tabLst>
                <a:tab algn="l" pos="385920"/>
                <a:tab algn="l" pos="1943280"/>
                <a:tab algn="l" pos="3720960"/>
                <a:tab algn="l" pos="56008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79120" y="81432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edule Planning Example -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1017720" y="2521080"/>
          <a:ext cx="7413480" cy="3773520"/>
        </p:xfrm>
        <a:graphic>
          <a:graphicData uri="http://schemas.openxmlformats.org/drawingml/2006/table">
            <a:tbl>
              <a:tblPr/>
              <a:tblGrid>
                <a:gridCol w="1854000"/>
                <a:gridCol w="1852560"/>
                <a:gridCol w="1854360"/>
                <a:gridCol w="1852560"/>
              </a:tblGrid>
              <a:tr h="377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as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Ho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um. Ho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73000" y="8316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Tracking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880560" y="164124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ject tracking would be simple i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always completed tasks in the planned or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tasks were added or dele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never happe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irements always 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sks get cancelled or defer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tasks are dropped and others are add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ing errors are comm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73000" y="8316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Tracking -2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899640" y="163188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track project status in a dynamic environment, you need a way to assign a value that measures the contribution of each task towards the whole proje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n you c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 up the value of the completed tas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are this value to the value of the total jo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culate the percentage of job comple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SP does this with a method called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arned valu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EV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69760" y="82692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rned Valu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890640" y="16272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87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rned value (E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6640" indent="-147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blishes a value for each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6640" indent="-147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mits progress tracking against the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6640" indent="-147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ilitates tracking, even with changes to the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rned value princi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6640" indent="-147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rned value provides a common value for each task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6640" indent="-147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value is the percentage of the total project hours that this task is planned to tak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6640" indent="-147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lanned value is credited, no matter how long it actually took to do the tas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6640" indent="-147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value is given for partially-completed task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6640" indent="-147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jor plan changes require new pla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74440" y="8172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ablish the Planned Valu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885600" y="1636560"/>
            <a:ext cx="7608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 the task templ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 the number of project h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culate the percentage of the total hours for each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er this percentage as the planned value (PV) for that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culate the cumulative PV for each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 the schedule template, enter the cumulative planned value for the tasks to be completed each day or wee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2"/>
          <p:cNvSpPr/>
          <p:nvPr/>
        </p:nvSpPr>
        <p:spPr>
          <a:xfrm>
            <a:off x="762120" y="1701720"/>
            <a:ext cx="75596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rmAutofit/>
          </a:bodyPr>
          <a:p>
            <a:pPr marL="128520" indent="-128520">
              <a:lnSpc>
                <a:spcPct val="90000"/>
              </a:lnSpc>
              <a:buClr>
                <a:srgbClr val="000000"/>
              </a:buClr>
              <a:buFont typeface="Arial"/>
              <a:buChar char=" "/>
              <a:tabLst>
                <a:tab algn="r" pos="291960"/>
                <a:tab algn="r" pos="1600200"/>
                <a:tab algn="r" pos="3035160"/>
                <a:tab algn="r" pos="4406760"/>
                <a:tab algn="r" pos="543564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e the PV, or the planned percentage of the total job that each task repres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69760" y="8046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rned Value Example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1017720" y="2506680"/>
          <a:ext cx="7413480" cy="3787920"/>
        </p:xfrm>
        <a:graphic>
          <a:graphicData uri="http://schemas.openxmlformats.org/drawingml/2006/table">
            <a:tbl>
              <a:tblPr/>
              <a:tblGrid>
                <a:gridCol w="1234800"/>
                <a:gridCol w="1236960"/>
                <a:gridCol w="1234800"/>
                <a:gridCol w="1235160"/>
                <a:gridCol w="1236600"/>
                <a:gridCol w="1235160"/>
              </a:tblGrid>
              <a:tr h="379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as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Ho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um. Hr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um. P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9" name=""/>
          <p:cNvGraphicFramePr/>
          <p:nvPr/>
        </p:nvGraphicFramePr>
        <p:xfrm>
          <a:off x="8902800" y="3568680"/>
          <a:ext cx="207720" cy="39672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762120" y="1679400"/>
            <a:ext cx="7559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rmAutofit/>
          </a:bodyPr>
          <a:p>
            <a:pPr marL="128520" indent="-128520">
              <a:lnSpc>
                <a:spcPct val="90000"/>
              </a:lnSpc>
              <a:buClr>
                <a:srgbClr val="000000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the cumulative planned value for each day (or wee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lnSpc>
                <a:spcPct val="90000"/>
              </a:lnSpc>
              <a:buClr>
                <a:srgbClr val="000000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74440" y="8236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rned Value Example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1017720" y="2220840"/>
          <a:ext cx="7413480" cy="4073760"/>
        </p:xfrm>
        <a:graphic>
          <a:graphicData uri="http://schemas.openxmlformats.org/drawingml/2006/table">
            <a:tbl>
              <a:tblPr/>
              <a:tblGrid>
                <a:gridCol w="1854000"/>
                <a:gridCol w="1852560"/>
                <a:gridCol w="1854360"/>
                <a:gridCol w="1852560"/>
              </a:tblGrid>
              <a:tr h="452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Ho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um. Ho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um. P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0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82360" y="822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cking the Pl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910800" y="16272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each task is completed, it earns the planned valu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er the earned value (EV) for that tas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er the date on which the task was comple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 the EV-to-date in the “Cumulative EV” colum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e schedule template, enter the cumulative EV for each day or week as it is comple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ck earned value versus planned value by day or wee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771480" y="1693800"/>
            <a:ext cx="75596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rmAutofit/>
          </a:bodyPr>
          <a:p>
            <a:pPr marL="128520" indent="-128520">
              <a:lnSpc>
                <a:spcPct val="90000"/>
              </a:lnSpc>
              <a:buClr>
                <a:srgbClr val="000000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the project, enter on the task planning template the day each task is comple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lnSpc>
                <a:spcPct val="90000"/>
              </a:lnSpc>
              <a:buClr>
                <a:srgbClr val="000000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88840" y="81900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cking the Plan Example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1017720" y="2425680"/>
          <a:ext cx="7413480" cy="4091040"/>
        </p:xfrm>
        <a:graphic>
          <a:graphicData uri="http://schemas.openxmlformats.org/drawingml/2006/table">
            <a:tbl>
              <a:tblPr/>
              <a:tblGrid>
                <a:gridCol w="1060200"/>
                <a:gridCol w="1057320"/>
                <a:gridCol w="1060560"/>
                <a:gridCol w="1057320"/>
                <a:gridCol w="1060200"/>
                <a:gridCol w="1057320"/>
                <a:gridCol w="1060560"/>
              </a:tblGrid>
              <a:tr h="610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as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Ho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um. Hr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um. P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5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5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5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6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774720" y="1690560"/>
            <a:ext cx="75596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rmAutofit/>
          </a:bodyPr>
          <a:p>
            <a:pPr marL="128520" indent="-128520">
              <a:lnSpc>
                <a:spcPct val="90000"/>
              </a:lnSpc>
              <a:buClr>
                <a:srgbClr val="000000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schedule template, enter the earned value (EV) for each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lnSpc>
                <a:spcPct val="90000"/>
              </a:lnSpc>
              <a:buClr>
                <a:srgbClr val="000000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76240" y="8236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cking the Plan Example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1017720" y="2508120"/>
          <a:ext cx="7413480" cy="3786480"/>
        </p:xfrm>
        <a:graphic>
          <a:graphicData uri="http://schemas.openxmlformats.org/drawingml/2006/table">
            <a:tbl>
              <a:tblPr/>
              <a:tblGrid>
                <a:gridCol w="1482480"/>
                <a:gridCol w="1482840"/>
                <a:gridCol w="1482840"/>
                <a:gridCol w="1482480"/>
                <a:gridCol w="1482840"/>
              </a:tblGrid>
              <a:tr h="420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Ho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um. Ho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um. P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73000" y="8316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Data in Planning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899640" y="1670040"/>
            <a:ext cx="765036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86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planning development work, we m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3400" indent="-14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task pl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3400" indent="-14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project sched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3400" indent="-14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 job status against the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3400" indent="-14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rt job status to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must also manage the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3400" indent="-14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 to the sched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3400" indent="-14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 plan cha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3400" indent="-14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 project ris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3400" indent="-14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 product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lecture covers the topics of planning and schedule manage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69760" y="82692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ng Job Comple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899640" y="164124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ume that the project will continue to earn EV at the same rate as in the pa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rapolate the time to project completion by extending the EV line until it reaches 100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is the likely project completion date, unl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ate of progress cha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 for the remaining tasks deviates from the original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790560" y="1684440"/>
            <a:ext cx="7559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rmAutofit fontScale="72000"/>
          </a:bodyPr>
          <a:p>
            <a:pPr marL="92520" indent="-92520">
              <a:lnSpc>
                <a:spcPct val="90000"/>
              </a:lnSpc>
              <a:buClr>
                <a:srgbClr val="000000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actual EV per d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70120" y="828360"/>
            <a:ext cx="78213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ng Completion Example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1017720" y="2206800"/>
          <a:ext cx="7413480" cy="3840120"/>
        </p:xfrm>
        <a:graphic>
          <a:graphicData uri="http://schemas.openxmlformats.org/drawingml/2006/table">
            <a:tbl>
              <a:tblPr/>
              <a:tblGrid>
                <a:gridCol w="1234800"/>
                <a:gridCol w="1236960"/>
                <a:gridCol w="1234800"/>
                <a:gridCol w="1235160"/>
                <a:gridCol w="1236600"/>
                <a:gridCol w="1235160"/>
              </a:tblGrid>
              <a:tr h="549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um. 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um. 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roj. 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Text Box 124"/>
          <p:cNvSpPr/>
          <p:nvPr/>
        </p:nvSpPr>
        <p:spPr>
          <a:xfrm>
            <a:off x="996840" y="6199200"/>
            <a:ext cx="563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should you expect to finis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2"/>
          <p:cNvSpPr/>
          <p:nvPr/>
        </p:nvSpPr>
        <p:spPr>
          <a:xfrm>
            <a:off x="757080" y="1679400"/>
            <a:ext cx="75600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rmAutofit/>
          </a:bodyPr>
          <a:p>
            <a:pPr marL="128520" indent="-128520">
              <a:lnSpc>
                <a:spcPct val="90000"/>
              </a:lnSpc>
              <a:buClr>
                <a:srgbClr val="000000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the actual EV earned per day (9.72), enter the projected EV by day to project comple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lnSpc>
                <a:spcPct val="90000"/>
              </a:lnSpc>
              <a:buClr>
                <a:srgbClr val="000000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65080" y="828360"/>
            <a:ext cx="776448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ng Completion Example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1017720" y="2398680"/>
          <a:ext cx="7413480" cy="3925800"/>
        </p:xfrm>
        <a:graphic>
          <a:graphicData uri="http://schemas.openxmlformats.org/drawingml/2006/table">
            <a:tbl>
              <a:tblPr/>
              <a:tblGrid>
                <a:gridCol w="1234800"/>
                <a:gridCol w="1236960"/>
                <a:gridCol w="1234800"/>
                <a:gridCol w="1235160"/>
                <a:gridCol w="1236600"/>
                <a:gridCol w="1235160"/>
              </a:tblGrid>
              <a:tr h="567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um. 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um. 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roj. 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71200" y="8172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 Changes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904680" y="1627200"/>
            <a:ext cx="76136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track job progress, you must follow the pl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ce plans always change, you must regularly update the plan so that it represents what you currently plan to 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course, you must always keep copies of the original plan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less the plan differs significantly from the way that you now plan to work, merely add any new tasks and delete the cancelled on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61840" y="82692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 Changes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904680" y="1636560"/>
            <a:ext cx="76136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ing tasks reduces the earned value of all of the planned and completed wo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ilarly, deleting tasks increases the earned values of the planned and completed tasks remaining in the pl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TSP support tools will make these EV and PV adjustments for yo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major plan changes, you must make a new pl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73000" y="8316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Reporting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899640" y="163188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all team members consistently record their data, TSP teams will know precisely where they stan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y can track, manage, and report on their wo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ollowing charts show how you can use these data to run a proje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use these exact same methods to manage your personal wo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74440" y="721800"/>
            <a:ext cx="8240760" cy="8542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 TSP Weekly Data -1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1017360" y="4219560"/>
            <a:ext cx="741348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all team members consistently record their data, TSP teams can precisely track and manage their wo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y know the planned and actual data for each week and for the project to da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y can precisely measure job status and estimate how long it will take to finish the work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7" descr="S36"/>
          <p:cNvPicPr/>
          <p:nvPr/>
        </p:nvPicPr>
        <p:blipFill>
          <a:blip r:embed="rId1"/>
          <a:stretch/>
        </p:blipFill>
        <p:spPr>
          <a:xfrm>
            <a:off x="1000080" y="1805040"/>
            <a:ext cx="7257960" cy="22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74440" y="712800"/>
            <a:ext cx="8240760" cy="85392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1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008000" y="4174920"/>
            <a:ext cx="7413840" cy="19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is team ahead of or behind schedule, and by how mu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6" descr="S37"/>
          <p:cNvPicPr/>
          <p:nvPr/>
        </p:nvPicPr>
        <p:blipFill>
          <a:blip r:embed="rId1"/>
          <a:stretch/>
        </p:blipFill>
        <p:spPr>
          <a:xfrm>
            <a:off x="1009800" y="1781280"/>
            <a:ext cx="7257960" cy="220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93520" y="721800"/>
            <a:ext cx="8240760" cy="8542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swer to Question 1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1007640" y="4201920"/>
            <a:ext cx="7404120" cy="19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is team ahead of or behind schedule, and by how mu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m has earned only 22.3 EV against a plan of 28.2 EV, so they are 26.5% behi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current rate, it will take 1.85 weeks to reach the planned 28.2 EV, so they are 1.85 weeks behind sched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6" descr="S38"/>
          <p:cNvPicPr/>
          <p:nvPr/>
        </p:nvPicPr>
        <p:blipFill>
          <a:blip r:embed="rId1"/>
          <a:stretch/>
        </p:blipFill>
        <p:spPr>
          <a:xfrm>
            <a:off x="952560" y="1771560"/>
            <a:ext cx="7257960" cy="220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83800" y="712800"/>
            <a:ext cx="8240760" cy="85392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2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022040" y="4155840"/>
            <a:ext cx="741348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is the team behind schedul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6" descr="S39"/>
          <p:cNvPicPr/>
          <p:nvPr/>
        </p:nvPicPr>
        <p:blipFill>
          <a:blip r:embed="rId1"/>
          <a:stretch/>
        </p:blipFill>
        <p:spPr>
          <a:xfrm>
            <a:off x="961920" y="1743120"/>
            <a:ext cx="7258320" cy="220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73000" y="8222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Personal Data -1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890640" y="163188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cise and detailed data can help you to manage your personal and team wo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rs and customers care ab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you will finish the jo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the work will c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quality of the finished prod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PSP data, you will know where you stand and can provide regular updates to your managers and custom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93520" y="712800"/>
            <a:ext cx="8240760" cy="85392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swer to Question 2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008000" y="4156200"/>
            <a:ext cx="7413840" cy="18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is the team behind schedul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though the team is working more than its planned weekly hours, the work is taking 23% longer than plann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6" descr="S40"/>
          <p:cNvPicPr/>
          <p:nvPr/>
        </p:nvPicPr>
        <p:blipFill>
          <a:blip r:embed="rId1"/>
          <a:stretch/>
        </p:blipFill>
        <p:spPr>
          <a:xfrm>
            <a:off x="942840" y="1790640"/>
            <a:ext cx="7258320" cy="220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74440" y="712800"/>
            <a:ext cx="8240760" cy="85392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3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1002960" y="4158720"/>
            <a:ext cx="7413480" cy="19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 this rate, can the team members finish on the original plan of 25 weeks?  If not, how late will they b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6" descr="S41"/>
          <p:cNvPicPr/>
          <p:nvPr/>
        </p:nvPicPr>
        <p:blipFill>
          <a:blip r:embed="rId1"/>
          <a:stretch/>
        </p:blipFill>
        <p:spPr>
          <a:xfrm>
            <a:off x="961920" y="1828800"/>
            <a:ext cx="7258320" cy="220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93520" y="721800"/>
            <a:ext cx="8240760" cy="8542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swer to Question 3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1031760" y="4195440"/>
            <a:ext cx="7413840" cy="20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is rate, can the team members finish on the original plan of 25 weeks?  If not, how late will they b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m has earned EV at 22.3/7 = 3.186 EV/we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is rate, it will take (100-22.3)/3.186 = 24.2 more weeks to finish.  This is 6.2 weeks behind the 25-week pl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6" descr="S42"/>
          <p:cNvPicPr/>
          <p:nvPr/>
        </p:nvPicPr>
        <p:blipFill>
          <a:blip r:embed="rId1"/>
          <a:stretch/>
        </p:blipFill>
        <p:spPr>
          <a:xfrm>
            <a:off x="952560" y="1843200"/>
            <a:ext cx="7257960" cy="22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74440" y="712800"/>
            <a:ext cx="8240760" cy="85392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 4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1007640" y="4156200"/>
            <a:ext cx="7521480" cy="19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this five-person team meet the original schedule?  If not, what help would they need from management to do s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6" descr="S43"/>
          <p:cNvPicPr/>
          <p:nvPr/>
        </p:nvPicPr>
        <p:blipFill>
          <a:blip r:embed="rId1"/>
          <a:stretch/>
        </p:blipFill>
        <p:spPr>
          <a:xfrm>
            <a:off x="952560" y="1857240"/>
            <a:ext cx="7257960" cy="220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83800" y="721800"/>
            <a:ext cx="8240760" cy="8542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swer to Question 4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1017360" y="4209840"/>
            <a:ext cx="7621560" cy="21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this five-person team meet the original schedule?  If not, what help would they need from management to do s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eet the schedule, they need to do 77.7 EV of work in 17 weeks, or 4.57 EV a we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increase their average EV rate of 3.186 EV a week by 35%, they must work 35% more hours, or add a team me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6" descr="S44"/>
          <p:cNvPicPr/>
          <p:nvPr/>
        </p:nvPicPr>
        <p:blipFill>
          <a:blip r:embed="rId1"/>
          <a:stretch/>
        </p:blipFill>
        <p:spPr>
          <a:xfrm>
            <a:off x="961920" y="1752480"/>
            <a:ext cx="7258320" cy="220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65080" y="8316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 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912960" y="1660320"/>
            <a:ext cx="7650000" cy="4298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0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team did increase their task hours somewhat and they also spent less time than planned in te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y also reprioritized the work and slightly reduced the total workloa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y actually finished on the exact day originally plann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the PSP, you will precisely know job status and will have the data to manage your own wo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this knowledge, you will usually meet your commitm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60400" y="8316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sages to Reme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902880" y="166500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89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the PSP, you can accurately plan and track your own wo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earned value, you can precisely judge job status and estimate the likely project completion da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information will permit you to make accurate and timely management repor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your reports indicate potential problems, you should report recommended remedial ac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 a self-directed team, you must tell management what you are doing to solve your own proble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73000" y="8222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Personal Data -2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899640" y="163188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8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all team members use PSP data to plan, manage, and track their personal work, the team can precisely report job statu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4440" indent="-166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will provide management with the information that they ne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4440" indent="-166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will also reassure the custom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importantly, using data wil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4440" indent="-166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vince management that you can manage your own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4440" indent="-166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ow management to continue supporting self-directed team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63280" y="822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ing Task Plans -1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890640" y="163188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both individual and team plans, the first steps are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 the job’s goals and objec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blish a strategy for doing the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 the processes to 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n, you c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e the size of the jo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 the tasks to be d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e the effort for each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blish the task or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e the sched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63280" y="822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ing Task Plans -2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899640" y="164124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83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the PSP, y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1407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e given the goals, strategy, and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1407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d the task order defined by the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1407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d PSP data to estimate the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1407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llowed the process to do the jo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 a team project, the team m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1407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gree on team 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1407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blish a strategy for the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1407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 the process to 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1407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a team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se teambuilding steps will be described in week 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63280" y="8316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ing Task Plans -3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899640" y="163188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84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ter the team has made the overall plan, the next step is to break it into individual task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se tasks are assigned to the various team members to plan and to imple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you are assigned team tasks, you use the PSP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6560" indent="-142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e and plan each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6560" indent="-142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llow your personal process to do the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6560" indent="-142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, track, and manage each step of the jo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SP works for individuals, whether they work alone or on team projec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73000" y="8222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eduling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899640" y="164124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ce you have determined the task order and task time, you can make the project schedu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involves both project and period plann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ject plan consists of the tasks, task times, and task ord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iod planning involves spreading the project tasks over a calendar peri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cp:keywords/>
  <dc:language>en-US</dc:language>
  <cp:lastModifiedBy>wrn_loc_adm</cp:lastModifiedBy>
  <cp:lastPrinted>2000-12-21T16:04:54Z</cp:lastPrinted>
  <dcterms:modified xsi:type="dcterms:W3CDTF">2018-09-06T00:15:20Z</dcterms:modified>
  <cp:revision>174</cp:revision>
  <dc:subject/>
  <dc:title>No Slide Title</dc:title>
</cp:coreProperties>
</file>